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loney-close.wav" ContentType="audio/x-wav"/>
  <Override PartName="/ppt/media/carcrsh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FC9-CF85-4E26-AF5E-21C32C04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8F1-7A63-4870-BAE0-6A14D7D7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1DB-F005-4E60-814F-BDA656C0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259-D36E-4BFD-ABC0-9D99FF808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6540-7A99-4652-9B01-1DD4167F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9EEF4-75AB-4E43-AD4E-4A55FAD4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1D8B-E05C-42DE-98EC-CD92C551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F59D-B3BF-4BD5-BB5F-9F79B921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A289-5F3C-482D-A2F9-BE4A1D56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A94D-2BDB-469E-8129-1973FCD1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1C3C5-6383-429B-9FFF-03AED4F8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8CB-B9C6-48E5-8D9C-E3A52B4A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8288-4240-4E45-839D-7FC4CA323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9F1A-7F7F-4477-80A6-E240EE74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2609-1F81-4D0D-91C6-9CC747DE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F25-5071-406A-A627-C3E87681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6CA2-9CE5-4A09-AB90-58580EFF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2AB-1058-45A5-8836-0F348DBD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DE9E-A002-49E0-9837-8A18D17A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C80C-9C60-4742-A77D-7FAF54AC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3B0-0AE5-434A-A210-252D4432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DD7-B49D-437A-8393-5F814D1B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1B55-CBB1-43A0-91BA-5C6DBE9A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EF30-93BE-44EE-A280-21DB24A9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6BC-5E05-4D76-921E-B997DBABA6D4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4266-B09C-468E-B837-D5D0F84E1C93}" type="slidenum">
              <a:rPr b="1" lang="en-US" sz="2600" spc="-1" strike="noStrike">
                <a:solidFill>
                  <a:srgbClr val="6699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audio" Target="../media/loney-close.wav"/><Relationship Id="rId3" Type="http://schemas.openxmlformats.org/officeDocument/2006/relationships/audio" Target="../media/carcr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wenty Questions </a:t>
            </a:r>
            <a:endParaRPr b="1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>
            <a:hlinkClick r:id="" action="ppaction://hlinkshowjump?jump=nextslide"/>
            <a:hlinkClick r:id="rId1"/>
          </p:cNvPr>
          <p:cNvSpPr/>
          <p:nvPr/>
        </p:nvSpPr>
        <p:spPr>
          <a:xfrm>
            <a:off x="7924680" y="601992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  <p:sndAc>
      <p:stSnd>
        <p:snd r:embed="rId2" name="loney-clo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cr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wenty Ques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2362320"/>
          <a:ext cx="7693200" cy="3724200"/>
        </p:xfrm>
        <a:graphic>
          <a:graphicData uri="http://schemas.openxmlformats.org/drawingml/2006/table">
            <a:tbl>
              <a:tblPr/>
              <a:tblGrid>
                <a:gridCol w="1538280"/>
                <a:gridCol w="1538280"/>
                <a:gridCol w="1540080"/>
                <a:gridCol w="1538280"/>
                <a:gridCol w="1538280"/>
              </a:tblGrid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8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9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4">
            <a:hlinkClick r:id="rId1" action="ppaction://hlinksldjump"/>
          </p:cNvPr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.  Type your first question here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the answer he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8001000" y="6019920"/>
            <a:ext cx="990720" cy="609480"/>
          </a:xfrm>
          <a:custGeom>
            <a:avLst/>
            <a:gdLst>
              <a:gd name="textAreaLeft" fmla="*/ 39240 w 990720"/>
              <a:gd name="textAreaRight" fmla="*/ 951480 w 9907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5103" h="21600">
                <a:moveTo>
                  <a:pt x="0" y="0"/>
                </a:moveTo>
                <a:lnTo>
                  <a:pt x="35103" y="0"/>
                </a:lnTo>
                <a:lnTo>
                  <a:pt x="35103" y="21600"/>
                </a:lnTo>
                <a:lnTo>
                  <a:pt x="0" y="21600"/>
                </a:lnTo>
                <a:close/>
              </a:path>
              <a:path fill="lightenLess" w="35103" h="21600">
                <a:moveTo>
                  <a:pt x="0" y="0"/>
                </a:moveTo>
                <a:lnTo>
                  <a:pt x="35103" y="0"/>
                </a:lnTo>
                <a:lnTo>
                  <a:pt x="33703" y="1400"/>
                </a:lnTo>
                <a:lnTo>
                  <a:pt x="1400" y="1400"/>
                </a:lnTo>
                <a:close/>
              </a:path>
              <a:path fill="darken" w="35103" h="21600">
                <a:moveTo>
                  <a:pt x="35103" y="0"/>
                </a:moveTo>
                <a:lnTo>
                  <a:pt x="35103" y="21600"/>
                </a:lnTo>
                <a:lnTo>
                  <a:pt x="33703" y="20200"/>
                </a:lnTo>
                <a:lnTo>
                  <a:pt x="33703" y="1400"/>
                </a:lnTo>
                <a:close/>
              </a:path>
              <a:path fill="darkenLess" w="35103" h="21600">
                <a:moveTo>
                  <a:pt x="351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3" y="20200"/>
                </a:lnTo>
                <a:close/>
              </a:path>
              <a:path fill="lighten" w="351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3" h="21600">
                <a:moveTo>
                  <a:pt x="10545" y="10800"/>
                </a:moveTo>
                <a:lnTo>
                  <a:pt x="24558" y="3794"/>
                </a:lnTo>
                <a:lnTo>
                  <a:pt x="2455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5:03:25Z</dcterms:created>
  <dc:creator>Connie Campbell</dc:creator>
  <dc:description/>
  <dc:language>en-US</dc:language>
  <cp:lastModifiedBy>Owner</cp:lastModifiedBy>
  <dcterms:modified xsi:type="dcterms:W3CDTF">2010-02-18T05:03:53Z</dcterms:modified>
  <cp:revision>3</cp:revision>
  <dc:subject/>
  <dc:title>Twenty Questions</dc:title>
</cp:coreProperties>
</file>